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345-A3A7-46CE-BC9D-70753979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DCB-EF8C-40F0-A600-7BBDD6D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E26-342A-4D16-8569-801D006A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49E-D409-416F-BE4F-B5650856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208-289A-4AA1-BB95-3BF7A0CE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96A-F790-497B-A14D-2BE00F8D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7E9-781C-45EF-A182-31752242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CF6-0D64-4026-B122-DA31384C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2E4-3FBB-493C-BFE7-7B21740B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B8D-6750-41C9-9B37-FD0874A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3D3-0737-46FB-8BCA-400506D0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D2A-3E76-438F-9AE6-B4DA0F9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F8FF-6192-4F3C-A7EB-DD80F932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threefold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41Z</dcterms:modified>
  <cp:revision>9</cp:revision>
  <dc:subject/>
  <dc:title>Confession (threefold form)</dc:title>
</cp:coreProperties>
</file>